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E2C-E4FB-4B29-8F05-A16A0B8D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D9C-F990-43E2-BA6B-55CBCBB0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75BEA-16E5-43A3-96AE-58CBE0AB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E7714-771A-4645-915C-D26E21D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8F669-655E-4EA7-88A1-EAE6BD1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61EC6-77B5-4A5B-9DF1-AF0E4FBE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BD84D-0938-4001-A36A-6150F8C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DE043-DBBB-429B-BF3A-ADA7020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C4DF-2EA0-47AE-96F5-BCB12398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F9168-0730-4816-B91F-5495E1A1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6126B-CD38-4FF4-AC2A-7DC01A9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5BD8E-ECB1-4079-AE01-2DD0CC69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4CD-251C-4DA1-A63A-CE2F11DA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B13D-DD70-4CCE-8F28-311BA3CF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C7DE0-754F-4AD1-85A9-0021B99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DE3BD-CB2A-4872-90FB-C75FB3E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CC7E3-28FF-41DD-9092-93E3B27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F693-B647-4B67-894F-531C9CF8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62F11-8D58-41BF-B650-A8B8D0E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AC992-8387-46C7-AB75-5A5E768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6B070-0350-4124-90D4-490DA04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C3AB0-3AEF-4FB6-8D0D-7E303060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D44CA-C5A1-483A-8CAB-26778C6E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3DB-D6A4-4A33-A0EF-C700ED33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2C708-3D3A-4408-BF6E-F90B3CF1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E498-2459-45F9-BE3C-0D55B46B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C4761-0FEC-4BFA-8F9F-2D1C9356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826CA-8481-4EED-B111-D8D23CA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FE9C2-F686-4699-A2F8-5E7C50F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7212F-D726-4A99-B8DB-9218D54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5DA9F-AF5C-428B-806F-D5A81DC2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3708C-2292-4815-BC62-FDE4E61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1921-4ADF-4A1A-BFF5-CCECCEE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D0BB5-53A3-4E80-9A2D-496EE88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1D3B-A447-46BA-8ACA-3547480F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834C8-B46A-4AD7-9289-9F046895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23EC5-8242-404E-8E23-0CD6066F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2F4E2-8A65-4263-A90C-C018157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DD19A-5ED0-4C39-B71B-016A7285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C5213-E24D-4C1C-9CA0-D63FEF5D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06FD7-495C-4D35-9316-60F81D0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2AD47-84CA-4183-9254-8CE1441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B1058-1AF4-4A14-A83D-C8DC9C6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C2163-37B3-430C-9F54-C8B73671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7952B-FB19-488D-8E18-B53061B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D43-EA61-4213-9EC0-8A61E6E2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00F8B-AEC1-4C6F-A9D8-A675312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DCFBA-AF08-4A89-899F-D59579A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A42EB-8085-4A65-A78A-007BB426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909D5-9CF2-4E5D-9CE8-97AA92ED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6BE7A-8936-4AD4-B32A-D95E7BB8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EF367-9335-4690-8A6A-0311232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81DE5-2D98-425A-8398-DB0C9728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29350-6512-4608-918A-DA284F51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C69C3-4BC9-49E4-92EC-3848EA2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601FA-4CE6-4796-A19B-1BF851CD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62E8-A94C-4E7B-99E0-08DC965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AAF67-DE2A-437C-9943-BFBA5FCB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5D560-5E1F-42DE-B0FD-9C067A5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3D6FF-B2DB-4AE3-A009-109193A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C6A30-3679-4A6B-BE1F-6871656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E8FC3-3CD7-4B17-9801-B1C6B49F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4558B-319A-49AA-AD55-51563437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9C432-15C1-4EBD-9DED-CF3EBEF9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3F7B0-ECC1-47EA-9652-B59CFD6F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03996-9B7A-4C1D-BBEC-E5EEC164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9B3D1-B157-449A-99B1-9BC22AB6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A2E0-5C03-4C8E-B6D8-83B54ED0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5E847-4B13-45D1-A305-8589A94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F15F8-A00D-468D-8DFF-409459AA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C849B-B032-476E-89CF-4EA18C29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3FE5D-5B94-4736-A65D-9B948B5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9F26E-D157-400E-86D4-A3B8907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C81C6-5A2E-4E84-8F6E-253DE5B1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535EF-526B-4267-BB6D-396B300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BC121-1321-4CBD-AA3C-5BE75E61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48FD1-8984-481D-B70B-9EDF0A41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6B929-58C7-4ADB-B7E2-7EF3E8E0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2BD7-35BF-444A-AFB5-4FC27754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40F20-ADE2-4ED5-832D-E9180065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C5D02-8C51-46D4-BC4D-05375F0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CE692-4B37-4FE7-A74F-EA9FEF2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73476-4834-45C5-BC8F-1C5A4E18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C4AE7-F0D2-4711-84A0-C06122CB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90058-EF1C-482A-AE6B-5EA72BB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0970B-25D8-426A-9F97-2E61EC3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B0AD1-7310-45EC-B8E0-460EFDCF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AD255-E7F3-4141-9B47-11A0FFDF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E4349-D37F-4C1F-BD28-0F7BBEB6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38BA-7CC8-4955-A5AD-ED7E90CA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6427A-4BBE-42D3-B135-F7FADE0C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94E21-E550-4E17-8E5C-EF8FD732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C8B96-4823-4210-B92A-D3503C3D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A5B42-F842-43C6-BCCF-F1B6B60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BA03C-3F5F-47F3-9A55-A98C214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BA938-D7DA-4D6D-842C-BCD23A29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1A407-B463-42D5-A72E-A5F62A32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D2B2A-B2C4-4167-8B26-C474D44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25E7F-F822-45ED-8E51-914A0D1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B6CEE-BE8D-4646-9E9D-DCCBD98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03E5-BF17-4DDF-912B-D7B75A0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FC475-92C1-4C6F-8753-968300DE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5B606-3C19-4FE1-96B0-134D275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02851-CA83-431C-8C00-04302DCB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07D35-2B79-4E13-B48F-3689CCC4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ED775-9788-4D86-8840-4749FB20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1D5BD-A6B5-4019-A582-71B29F8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60141-27D4-48F8-A741-2A24441E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AEB43-212F-4FFD-8EE5-802BF757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76E08-4A85-45F8-8D74-B67FAE4A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F9EF2-6427-48DE-867E-1751E2A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623-61C3-4BE6-83FE-66342420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8CFC-3F2F-41FA-B221-DF20606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F4AE1-7D6B-42AD-BA76-DA7AE9AD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5A049-F01A-42F7-9815-A23CC0B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08616-D3FC-4B0E-B8CC-87AD5A2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84F51-0059-4584-9648-6B5CB124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D75E4-B713-4616-805D-5ADF5202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08410-E1E3-45AE-A18A-FD6461BA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BA895-99AB-419A-999B-979A589A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A4EAB-39E7-4595-B1E8-5EA20F5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C8D34-A443-4877-B489-A4BE3B5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6E96E-036F-4F80-A38B-16BCCA7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63C9-94B3-4E9C-9B02-4BFBE94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A25E3-1666-4C90-A6DD-70D09F59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7D362-BEAF-4CFF-A9F6-449AB739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AC93F-13DB-4C0C-B6A9-E7B78F3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BD710-0B86-4BB4-9D76-C58C778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DC14D-FD54-4934-A96F-8FE2768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DD9AE-CF73-4B54-9F46-56256ED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C8D25-DFAA-4AFA-B80C-B94BAF27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566CC-E8B7-4585-9133-9236F3C7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6CFD8-77E5-4160-9801-BA7F23C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77CF0-186F-4857-B1E6-1A33A11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59E2-43BE-480F-9EFD-508A062A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9EB8A-0DB0-4D9B-9BD6-82D9977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FA005-01B6-4AF0-97AF-5AAF7693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66980-6242-4D50-86CE-4D6C4D74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E4921C-C379-4F14-8E34-15BABDD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031D9-7904-4359-9A3D-D0F8C37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2DFCA-8FA3-41BF-9551-4874193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F3216-DFC7-4F05-9183-812D7F1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AD263-08FD-493A-BDCC-7295459D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7C8F9-FE98-487E-B084-595D93DD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FD5FC-D1C2-4C63-87F8-4420BF8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962-FDE2-4944-BDC5-598ACACF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6CF5E-59B2-43E7-8F3F-3FD7AE69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0335B-BED9-4215-BC86-4C82A89D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B59CD-BDDA-46EC-8EB7-262AA35B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CB37E-0067-4299-A50F-AA9D2ED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02BAB-D344-4959-8556-29BCA2DF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3D5B3-393A-4AFB-818D-601D7CB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0C1CC-E47C-40E3-A161-790CDA1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76F85-4506-4280-BFFD-0320CD0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BE03E-81D1-496B-9E1D-7002D39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2B751A-3DBC-4B3B-885A-276D0A78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C5E4-E257-4B90-AC6E-412AFD12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F3567-782E-4989-9917-D371C766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021BD-8D65-4957-827E-98748708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C8D8C-A85B-4118-B587-86019811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101EF-2AC7-45BE-985A-7957205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D8BBE-283E-4F44-8543-111E199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CB6AF-10F8-45C7-B737-A3C84555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81D66-9141-42FC-B5E3-601D252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9DFC4-F853-47B6-8ED4-6FC2CB1A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E54EC-709C-4B42-B760-EE1E5FAF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78BE8-A5EE-4BB5-9F17-6E3AAE08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9198-C52C-421B-8E0A-C9B8D68D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62A93-8036-41B2-B83B-0FB326E1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69530-D474-444B-B976-54031D89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8098B-F41F-4D71-95B7-E6F1E49F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1DD9-33DF-4CD9-8D18-692473B4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914E-9DB3-4D78-A878-05DEF30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9A8D-9583-4199-97A5-8343326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949E-54DE-4078-8302-A6AED3A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786-B5B1-4F80-8BE4-ECA2C109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0E06-F7C8-4AE5-B36B-C177EC7B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B917-D9D2-49CB-B8E2-EB6BC9A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4A4A-AD1D-4940-AD68-E94C0A1D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00A2-ABDD-4D86-8EB2-8D89BA6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F06F-312B-4691-B5AA-28C6537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138A-128B-4CC0-B982-AE28ACD0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92F5-EE24-4113-9F63-BB36ECF1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4087-A2EB-408E-A480-B6A97EE1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BD78-6799-4A0E-9EC4-93EA435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112D-4A30-427A-9069-5F658A78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6FF-7B7F-401A-A616-547670E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9107-1FC6-4700-8CCA-7AD688B8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3BAE-5B2C-47A0-9D1D-3E6615D2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7524-A2BE-4118-A9F8-00F26B25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5CBA-C008-4823-837E-1611AF65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6676-7D14-48A2-9089-9AE19FB5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A82B-D85D-426C-88DB-D48724C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07B2-8CE1-4616-ABDF-A35604A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EDB4-F247-4DFA-8A50-33C9F205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6BB3-855C-4C0A-AF5C-E04969D7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9686F-05E1-4C15-852D-1A13CB2D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059-0A0E-4D9F-8F1C-6141D80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BD0A-1419-416C-A2DF-5125E88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2F34-E128-452A-AD9A-A2C44E0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89F9-BA3E-4F8C-A5DF-938E618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6393-0136-4C81-847C-AE6B89B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DA8D-DEF0-4B6A-B317-65319D56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EE02A-36AF-400B-9BE6-B7EE0CF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FA53B-6864-4AD7-AA9C-B4ADEA5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6C28-78E2-4414-8C4B-0B382767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79D9-251E-4EBA-9ED8-3332812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294F-1C54-4E4B-9D82-7B0DDCFE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6B4-5567-4C2E-996A-919DE5B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CF2EE-4E9F-4B9C-B788-B70CD01A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9A77-50A8-4F8A-BFBD-3455A88A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EF26-159B-4BB2-83E0-CBCF1A9B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3959E-B177-445E-A834-F0A669E8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5655-4C3A-4A85-91F1-304E137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E8BA-0052-4BD6-9E72-23E06AC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B336-455B-447D-A11F-31A49A73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37F1-0CE3-4CF4-AA40-75DC6DF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3A0A-7FAC-4AD0-91E3-55CBBF7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EADC-4CDC-4476-B48A-A2FFA88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893-EB0D-402D-B5EC-485B1C08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EDD7-2D15-4459-823A-A7A9508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45C5-DB0E-4322-80EF-922CF13F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12B13-F3AE-4979-A7A9-C6B2F617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A6F8E-1C2A-4F99-A783-13CF6099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93612-E429-4C66-A52E-8A9D2684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467E3-413C-4320-BB82-BC6D794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23FD-3F09-4F3F-AD27-35959EA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5489E-39FF-47EA-982F-64CE23E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33F5-C2E4-4053-B5F8-8337F1E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6E51-3343-4459-9A27-14392E0C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5B9-83B6-4797-9147-06A321E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3BA11-2AB8-40E3-9093-E4A5A2C4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285B2-C530-4A41-ACE7-8179D5D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A6A3-6FCB-4723-83CE-8989FCC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0BBA-DED8-4901-B68D-68E2416B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4974-98C1-44EF-9E6E-1B20D759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D57C-30F4-40EA-8604-6BA8389A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77E3-1CAF-44DA-A217-F297060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50AA4-B67B-4837-A393-E6823C7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C2F5-8B8D-4454-8994-3373728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FFB4-B86A-4A3C-B5F7-C9895E43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B09-D8EA-4C4F-A7F4-78EE84E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D0BCC-7500-4EDE-B7F3-CDC860AC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CE6F7-2FB8-4235-8365-5F6A129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A2A1-378E-459B-8142-CDE438B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8577-D4FF-453B-A5C7-D496478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8003-D850-4517-B70C-C2B4A8D8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DE56B-6C11-4AF2-B533-EF4585DE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A4DF-D333-4373-A035-CD865675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DD14C-AD79-4140-9A88-34EA572D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A5168-8BFF-4226-9F99-BA7110E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D410E-8A9F-499C-ADDD-7063D184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0C9-B928-4BA3-BA62-06EEBBD06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EAE1-E288-458C-8594-240D7FBA0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E75-A72B-4BD1-BCA1-072EA869D0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AE4C-0B0A-4F4B-B153-5EEEA38A8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8A0-A0B2-464D-9C21-89D8B7CE7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1415-7B07-47E3-92F6-BB48C0F22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4096-A132-4606-BBE6-5CC3B0747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63A9-D663-4612-A6A5-785DAD314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3B8-982C-48A1-9688-A3E864A8D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18C-6D3B-434D-9553-BF19E886E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D53-9755-447F-B285-6BA323C64D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A48-93C5-4C95-A099-3FA93F430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2B1-C0F8-41F0-9CA6-0CF6839C9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4D2-A7FC-47D0-8347-864C9A050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5815-7BB8-4957-82E1-42C01E889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B9A1-33B9-4F3A-87FF-979E21AF8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FC14-ABDB-4C20-A55B-7C2F7F46A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72F0-63B9-4A19-B02D-3A0AF89808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C1B-939B-4DFD-BAA1-5648F1D55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0B11-48E3-4203-B34C-5C557312F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D3AA-21B9-4AD1-924F-C1048962A2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701-1CE6-47B4-B963-B3EC5EDDB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5BEC-CC54-432D-AE16-C9C5664F0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123-FDE1-46E6-AC23-FF767AB21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856C-52F6-40B7-8728-90598C3C3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09F0-B802-4FA4-B730-F4A906D00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FB3B-69CF-45E6-8A7E-134AE9462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247D-6497-440B-83E7-3C347A69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C37-43ED-45E6-A224-689DE73E4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EC3-B3A5-4AB9-818A-658E904EC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D82-C7A2-4315-90FA-43A6A7B929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4F55-7A60-48E9-A7F0-9D7F278F4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8A4-EAF7-4974-98A7-322065BCF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0D2-9EC5-4AFD-A152-34D15DDE61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135-B7DD-4D0E-B4A4-6FDAB6A120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DE49-4354-45F6-B37F-1D4DFE50F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440-8129-4681-A793-636D4E250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EC8-6D31-4E9F-B775-63716CAFD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58D1-CDAF-481A-AA9F-DD77568E7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25B-23A9-480B-9A41-13DD4BC1F3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838600" y="3024360"/>
            <a:ext cx="34668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519120" y="1676520"/>
            <a:ext cx="8105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324640" cy="5562360"/>
          </a:xfrm>
          <a:prstGeom prst="rect">
            <a:avLst/>
          </a:prstGeom>
          <a:ln w="0">
            <a:noFill/>
          </a:ln>
        </p:spPr>
      </p:pic>
      <p:sp>
        <p:nvSpPr>
          <p:cNvPr id="1062" name="矩形 2"/>
          <p:cNvSpPr/>
          <p:nvPr/>
        </p:nvSpPr>
        <p:spPr>
          <a:xfrm>
            <a:off x="1214280" y="2668680"/>
            <a:ext cx="742968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3"/>
          <p:cNvSpPr/>
          <p:nvPr/>
        </p:nvSpPr>
        <p:spPr>
          <a:xfrm>
            <a:off x="642960" y="3071880"/>
            <a:ext cx="7929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4"/>
          <p:cNvSpPr/>
          <p:nvPr/>
        </p:nvSpPr>
        <p:spPr>
          <a:xfrm>
            <a:off x="642960" y="3500280"/>
            <a:ext cx="79297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5"/>
          <p:cNvSpPr/>
          <p:nvPr/>
        </p:nvSpPr>
        <p:spPr>
          <a:xfrm>
            <a:off x="642960" y="3929040"/>
            <a:ext cx="800100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6"/>
          <p:cNvSpPr/>
          <p:nvPr/>
        </p:nvSpPr>
        <p:spPr>
          <a:xfrm>
            <a:off x="642960" y="4343400"/>
            <a:ext cx="800100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"/>
          <p:cNvSpPr/>
          <p:nvPr/>
        </p:nvSpPr>
        <p:spPr>
          <a:xfrm>
            <a:off x="428760" y="4775040"/>
            <a:ext cx="828648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8"/>
          <p:cNvSpPr/>
          <p:nvPr/>
        </p:nvSpPr>
        <p:spPr>
          <a:xfrm>
            <a:off x="642960" y="5214960"/>
            <a:ext cx="80010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"/>
          <p:cNvSpPr/>
          <p:nvPr/>
        </p:nvSpPr>
        <p:spPr>
          <a:xfrm>
            <a:off x="571680" y="5632560"/>
            <a:ext cx="80722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10"/>
          <p:cNvSpPr/>
          <p:nvPr/>
        </p:nvSpPr>
        <p:spPr>
          <a:xfrm>
            <a:off x="625320" y="6049800"/>
            <a:ext cx="280368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581040" y="1019160"/>
            <a:ext cx="7981920" cy="48196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2286000" y="2928960"/>
            <a:ext cx="5716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3500280" y="2928960"/>
            <a:ext cx="14288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357280" y="378612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3857760" y="3786120"/>
            <a:ext cx="1357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1714680" y="4643280"/>
            <a:ext cx="714240" cy="26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3214800" y="4629240"/>
            <a:ext cx="1011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5511960" y="4618080"/>
            <a:ext cx="5713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1428840" y="542916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2857680" y="5429160"/>
            <a:ext cx="5713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3929040" y="5429160"/>
            <a:ext cx="17146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7000920" y="5429160"/>
            <a:ext cx="10713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485640" y="2033640"/>
            <a:ext cx="8172720" cy="279072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1285920" y="2928960"/>
            <a:ext cx="7358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1071720" y="3357720"/>
            <a:ext cx="11430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1285920" y="4143240"/>
            <a:ext cx="59292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485640" y="1542960"/>
            <a:ext cx="8172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95360" y="905040"/>
            <a:ext cx="8153280" cy="504792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4286160" y="1785960"/>
            <a:ext cx="25718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6286680" y="2643120"/>
            <a:ext cx="714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1214280" y="3500280"/>
            <a:ext cx="13575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1214280" y="3857760"/>
            <a:ext cx="2428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7786800" y="392904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5572080" y="4286160"/>
            <a:ext cx="13572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6500880" y="4714920"/>
            <a:ext cx="1285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8040600" y="514656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692280" y="5575320"/>
            <a:ext cx="950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7143840" y="557208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14360" y="2271600"/>
            <a:ext cx="8315280" cy="23148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7500960" y="2286000"/>
            <a:ext cx="128592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642960" y="2749680"/>
            <a:ext cx="100008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6286680" y="2714760"/>
            <a:ext cx="928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7072200" y="3143160"/>
            <a:ext cx="1571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642960" y="3571920"/>
            <a:ext cx="178596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519120" y="733320"/>
            <a:ext cx="81057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485640" y="1319040"/>
            <a:ext cx="81727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461880" y="1504800"/>
            <a:ext cx="82202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5:2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